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05A-07C5-4969-9799-96A89D41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0B9-566B-4FE3-ABC8-DD47CFD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125-2002-40BC-9B4C-CF04DE0B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376-8629-4353-91A1-2F7D84B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F2F-2683-419A-BC02-9FD0E560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19B-8E37-4A36-B643-4725C0FD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306-3319-4780-BD32-5FF41737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A20-24A9-4866-970B-87D58C1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BDF-4F6C-4E9F-AFFA-FF55BDC5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736-8B6B-40E2-9ABA-638E76EB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527-3E27-4D41-BA98-EDA5A7E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26C-8A5B-467B-919B-A751ECE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F58-88B0-4071-B522-68D46AD69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963720"/>
          <a:ext cx="8496360" cy="5805360"/>
        </p:xfrm>
        <a:graphic>
          <a:graphicData uri="http://schemas.openxmlformats.org/drawingml/2006/table">
            <a:tbl>
              <a:tblPr/>
              <a:tblGrid>
                <a:gridCol w="1224000"/>
                <a:gridCol w="3673440"/>
                <a:gridCol w="359892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 в 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правленческая план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1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ое состояние процессов определяет клиен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 по процессам определяются стандартами и решениями руков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- совершенствование процессов. Требуется процессное мышлени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- выполнение плана. Требуется мышление, ориентированное на результа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0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е 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 на долгосрочный устойчивый эффек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 на быстрый эффе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янные, постепенные улучшения, не требующие затра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кие изменения, завязаные на затра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а - это хорошо, так как является основой для совершенств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 - плохо, надо наказать виновны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ольшинстве случаев в проблеме виновата система, построение которой зависит в первую очередь от руков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ольшинстве проблем виноват исполнител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внимания уделяется устранению отклонений по показателям, чем повышение средних значен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внимания повышению средних показа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93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ются инструменты кайдзен для анализа причин и решения проблем (Диаграмма спагетти, Парето, Ишикавы, причинно-следственной связей и пр.), инструмент командной работы стенд PDC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ются отчеты, доклады, вопросы - ответы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 лидер, не всегда начальни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 нача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ями занимается рабочая групп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ями занимаются отдельные личности (специалисты, консультан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влечение. Каждый имеет возможность высказывать свои иде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уждение. Не всегда тебя слуша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самостоятельно выявляет проблемы и ставит задачи и сроки по решению проблем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и выявляют проблемы и ставят задачи по их устранению. Поиск причин проблем часто не проводи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ется диалог. Цель - найти истину. Используется вопрос "5 почему?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ется монолог руководителя. Используется вопрос "5 кто?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2"/>
          <p:cNvSpPr/>
          <p:nvPr/>
        </p:nvSpPr>
        <p:spPr>
          <a:xfrm>
            <a:off x="108000" y="115920"/>
            <a:ext cx="84200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3f5d"/>
                </a:solidFill>
                <a:latin typeface="Arial Black"/>
              </a:rPr>
              <a:t>Отличия работы постоянно-действующих рабочих груп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3f5d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3f3f5d"/>
                </a:solidFill>
                <a:latin typeface="Arial Black"/>
              </a:rPr>
              <a:t>и управленческих планё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1:58:07Z</dcterms:created>
  <dc:creator>Крупин Алексей Юрьевич</dc:creator>
  <dc:description/>
  <dc:language>en-US</dc:language>
  <cp:lastModifiedBy>Крупин Алексей Юрьевич</cp:lastModifiedBy>
  <dcterms:modified xsi:type="dcterms:W3CDTF">2012-11-29T08:35:15Z</dcterms:modified>
  <cp:revision>7</cp:revision>
  <dc:subject/>
  <dc:title>Презентация PowerPoint</dc:title>
</cp:coreProperties>
</file>